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865C-9094-42ED-B282-1F9BB5D96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3AAC-AAFE-42B0-975A-B8DF8161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E1E1-5E20-4D5D-AE4B-3732D93A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B811-685D-4FD7-8B9F-55F26C6A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7FBC-709A-43A1-8CB7-73DD93B0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DE10-797B-4A07-9019-2EEB4B22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8B7A-45A3-4B89-BEA1-3A1824FB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554F-B5B9-4C4F-B330-69CAB884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1468-6BB9-4307-B2E8-05A77759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F2B2-861F-4EEA-B7AA-F9D1083B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996F-AE2A-4FF2-806B-E4355CF9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4379-A61A-4F51-95DE-4C888D27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D8D8-B26F-4A18-82B7-1CAB81DCDC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2.wmf"/><Relationship Id="rId4" Type="http://schemas.openxmlformats.org/officeDocument/2006/relationships/image" Target="../media/image11.png"/><Relationship Id="rId5" Type="http://schemas.openxmlformats.org/officeDocument/2006/relationships/image" Target="../media/image1.wmf"/><Relationship Id="rId6" Type="http://schemas.openxmlformats.org/officeDocument/2006/relationships/image" Target="../media/image5.wmf"/><Relationship Id="rId7" Type="http://schemas.openxmlformats.org/officeDocument/2006/relationships/image" Target="../media/image7.wmf"/><Relationship Id="rId8" Type="http://schemas.openxmlformats.org/officeDocument/2006/relationships/image" Target="../media/image3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’est-ce que tu vas faire ce week-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ujourd’hui                      Samedi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26 mars                           31 m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2919240" cy="3024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55162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vais au musée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88000" y="55897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vais aller au musé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076720" y="1916280"/>
            <a:ext cx="27100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564000" y="0"/>
            <a:ext cx="1779480" cy="2232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156360" y="260280"/>
            <a:ext cx="2376360" cy="1751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50920" y="4792680"/>
            <a:ext cx="1944720" cy="1652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300720" y="4869000"/>
            <a:ext cx="2590920" cy="1703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059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6659640" y="2637000"/>
            <a:ext cx="17272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324000" y="333360"/>
            <a:ext cx="2232000" cy="1986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3203640" y="4941720"/>
            <a:ext cx="2592360" cy="1598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611280" y="2637000"/>
            <a:ext cx="1962000" cy="1969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3276720" y="2478240"/>
            <a:ext cx="237492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14654160" y="-10541160"/>
            <a:ext cx="33951960" cy="288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8605800" y="-13204800"/>
            <a:ext cx="35499600" cy="31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11198160" y="-19829520"/>
            <a:ext cx="31622760" cy="33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17894160" y="-12052440"/>
            <a:ext cx="37155240" cy="229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2341440" y="-13319280"/>
            <a:ext cx="43924320" cy="40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41945040" y="-6651720"/>
            <a:ext cx="61617240" cy="618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ujourd’hui                      Samedi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26 mars                           31 m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20840" y="1816200"/>
            <a:ext cx="2884320" cy="3052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544500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joue au foot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55897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vais jouer au fo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29941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ujourd’hui                      Samedi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26 mars                           31 m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5589720"/>
            <a:ext cx="38988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visite le château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88000" y="5589720"/>
            <a:ext cx="39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vais visiter le châtea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32360" y="1844640"/>
            <a:ext cx="3600360" cy="3060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367200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ujourd’hui                      Samedi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26 mars                           31 m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228840" cy="3240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733720"/>
            <a:ext cx="822960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’écoute de la musique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88000" y="5589720"/>
            <a:ext cx="39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vais écouter de la mus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3004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ujourd’hui                      Samedi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26 mars                           31 m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686320" cy="33843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58972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danse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88000" y="55897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vais dan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076720" y="1700280"/>
            <a:ext cx="2745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ujourd’hui                      Samedi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26 mars                           31 m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456000" cy="30747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5589720"/>
            <a:ext cx="39704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regarde la télé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88000" y="5589720"/>
            <a:ext cx="39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vais regarder la tél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932360" y="2060640"/>
            <a:ext cx="32400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ujourd’hui                      Samedi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26 mars                           31 m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859280" y="1700280"/>
            <a:ext cx="4033800" cy="29718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58972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mange un gâteau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88000" y="5589720"/>
            <a:ext cx="39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vais manger un gâtea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374328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ujourd’hui                      Samedi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26 mars                           31 m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3816360" cy="23508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544500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nage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88000" y="55897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vais nag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859280" y="2205000"/>
            <a:ext cx="396072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ujourd’hui                      Samedi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26 mars                           31 m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456000" cy="31748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58972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fais de l’équitation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88000" y="5589720"/>
            <a:ext cx="39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vais faire de l’équi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148360" y="1916280"/>
            <a:ext cx="3384360" cy="31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0:36:18Z</dcterms:created>
  <dc:creator>staff17</dc:creator>
  <dc:description/>
  <dc:language>en-US</dc:language>
  <cp:lastModifiedBy>Ministry of Education</cp:lastModifiedBy>
  <dcterms:modified xsi:type="dcterms:W3CDTF">2009-10-21T23:23:38Z</dcterms:modified>
  <cp:revision>11</cp:revision>
  <dc:subject/>
  <dc:title>Qu’est-ce que tu vas faire ce week-end?</dc:title>
</cp:coreProperties>
</file>